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605-D713-4A52-A4CE-AECA34B1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CF10-4DA5-4A03-AA2C-B467A7BE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2D2-519B-4503-A704-33254D07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83A-27DB-46ED-8A3E-196F8FA3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F1DA-9352-4AD7-9DD7-6019C098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01DE-9108-459E-AE22-66ACD19B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7A3C-F0DC-4196-BF07-237CEA8C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FBA-0B18-4C04-BBEE-845FA75B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0AE-AB4B-45CC-9D5F-670553A1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69E4-F00F-4979-A5F8-D874518F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3AAF-388E-4FC7-8A94-2D27FDCD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F2F-C63D-46D0-A05B-58382FAC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E917-919A-40F7-A5E7-2B607BD3F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PARIŢIA ŞI RĂSPÂNDIREA CREŞTINISMULU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181480" y="144792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dactaţi pe scurt semnificaţia următorilor terme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rce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rdonaţi cronologic următoarele evenimen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vizarea Imperiului r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tragerea administraţiei şi armatei romane din Da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nirea hunilor în 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urmări au av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ătrunderea ostrogoţilor în I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Justin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mnia împăratului Diocleţ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12</cp:lastModifiedBy>
  <dcterms:modified xsi:type="dcterms:W3CDTF">2012-06-19T11:25:02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